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F657B-F8DE-46AD-9796-876315E5C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7D046-738C-4B8D-9399-8D9A4006A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F4D3E-C5D4-4791-83D2-6AD1CF470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DDCA2-A589-453F-AB52-5954239B1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B846D-75E5-49B9-935A-95DF84EC1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AD2E6-7A26-4223-A0CF-2CB458EE2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38EF7-B41F-4026-B294-DDF1B6CEB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4BA13-1E1A-4AB3-9B7B-B3BB0A0F5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A0A1C-FCF7-4295-BDC9-607E0153F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CD71E-718A-4C7B-9C6E-7C8E71B62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EB3AF-4E80-4197-B183-04390F681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19E99-8419-49DE-B971-C4B7051CE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107FA-82F8-4CB8-839F-73A35D6BA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B1CB5-370C-48DE-8EE1-E11A520A1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F2380-8F23-4D84-BC10-2F1301A00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D4DF1-8E98-4A73-A599-98C447A31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90829-51C1-4643-9D70-2A2F184C2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0BD4F-0E5C-462D-8A48-5DD69A1CC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E87A3-E6D7-45C8-B0B7-A8E7268A0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A1A5F-C5FF-4702-BE48-ECC183AEB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174AD-09F0-4CB2-A69F-571FE10E1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CC263-3741-40FA-BE63-D6165DF5C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F4BD8-2BBE-4B51-A25C-C1CE54A34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D06CE-6C43-4BED-A146-F9BE82A1E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E28F5-633E-4254-9AA9-3FAA6448393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5DAAE-AD2E-450B-AE6C-87F4F3410F8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sent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hunks (packets) of data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passed from node to node between source and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terminal to computer and computer to computer 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systems have large overheads to compensate for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rn systems are more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s can be caught in en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overhead for error control is stripped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ution of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ttle overhead fo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packet (called cell)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thing from 10Mbps to G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data rate using packet switching techn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d Services Digita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replace public telecom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de variety of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ly digital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or small cam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owned by same organization as attached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much hig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roadcas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w some switched systems and ATM are being intro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communications between entities in a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peak the same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-mail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te sen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 of a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an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 ma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sk of communication broken up into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example file transfer could use three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service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File Transfer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92480"/>
            <a:ext cx="800100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Three Layer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Communications Model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s data to be transmit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data into transmittable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s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received signal into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s incoming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the computer and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ing computer provides address of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voke level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ent on type of network used (LAN, packet switched etc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ata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being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different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e-mail, fil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evels of addressing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puter needs unique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application on a (multi-tasking) computer needs a unique address within the comp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ervice access point or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s an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528"/>
          <a:stretch/>
        </p:blipFill>
        <p:spPr>
          <a:xfrm>
            <a:off x="1676520" y="1752480"/>
            <a:ext cx="561024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 in Simplified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47840"/>
            <a:ext cx="807696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Data Units (PDU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ach layer, protocols are used to commun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rmation is added to user data at each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 may fragmen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gment has a transport header ad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a transport protocol data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s network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 for destination 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ies reque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a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22372"/>
          <a:stretch/>
        </p:blipFill>
        <p:spPr>
          <a:xfrm>
            <a:off x="685800" y="2117880"/>
            <a:ext cx="784872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US Defense Advanced Research Project Agency (DARPA) for its packet switched network (ARPAN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global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official model but a working o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o host or transpor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Communications Model -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060"/>
          <a:stretch/>
        </p:blipFill>
        <p:spPr>
          <a:xfrm>
            <a:off x="457200" y="1676520"/>
            <a:ext cx="8153280" cy="47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interface between data transmission device (e.g. computer) and transmission medium o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of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end system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 pro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voking services like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Layer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 may be attached to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functions across multipl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ed in end system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 (TC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eliver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ing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ttp, SM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914400" y="1676520"/>
            <a:ext cx="7315200" cy="50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Systems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International Organization for Standardization (IS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theoretical system delivered too lat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is the de facto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v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16127"/>
          <a:stretch/>
        </p:blipFill>
        <p:spPr>
          <a:xfrm>
            <a:off x="838080" y="1676520"/>
            <a:ext cx="7772400" cy="51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d to allow for interoperability between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a large market for equipment and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products from different vendors to commun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eze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ultiple standards for the same t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Communications T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System Uti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r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ing and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format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 Organiz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Socie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(formally CCIT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rther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, W. Data and Computer Communications (6th edition), Prentice Hall 1999 chapter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 for Stallings boo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ww.shore.net/~ws/DCC6e.htm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for IETF, IEEE, ITU-T, 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Requests for Comment (RF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net News grou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dcom.*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protocols.tcp-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Data Communications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9050"/>
          <a:stretch/>
        </p:blipFill>
        <p:spPr>
          <a:xfrm>
            <a:off x="457200" y="2295360"/>
            <a:ext cx="8153280" cy="28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communication not usually prac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re too far a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set of devices would need impractical number of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Network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914400" y="1668600"/>
            <a:ext cx="6705720" cy="51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de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geographical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ing public rights of w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in part on common carrier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 Transfer Mode (AT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s path established for the duration of the convers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0:42Z</dcterms:modified>
  <cp:revision>15</cp:revision>
  <dc:subject/>
  <dc:title>William Stallings Data and Computer Communications</dc:title>
</cp:coreProperties>
</file>